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23B9-AB7A-4EB0-B46F-16F6E2F32C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62FA-2F63-466F-BFB5-0E4A8FF646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0F87-F0A2-494B-B419-AD2486AB49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EEB-5DD9-453D-B273-D7D2748C80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0B2F-4E82-405A-9905-94D9B5FBC0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E8A7-831D-48D2-BFFE-A6A0E0E6DF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86DF-B92B-41AE-A4BC-30943D68E3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340-65DF-4BAC-973A-F6432ED3E4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C7E4-3FC4-4BB1-B020-802204F415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D57-6D23-48D4-BFEB-7A2DF3B08E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28A-2921-462D-A079-41FBC613D1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1B3-BA6F-4D36-9530-C8D57FDB56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A041-43AA-4B8A-AFFE-6CCD969246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E24-B54E-4921-8656-BA709390EC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708E-5F08-419D-AB47-4C4A94785CE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6C87-1873-4F50-91ED-58C7A42660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0815-C091-41BA-8E82-260F38F925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645-81E1-4E55-98D1-245E94F5D5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4F17-31CF-414D-96E4-D64E10C656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9568-FF32-4C3A-8478-D3A5AEF427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DC25-8987-4E97-A6F7-A9A43BBE46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F9D1-A120-4E7F-9D98-4A54A3B5A3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989F-9A55-49CC-9A02-D36F8AFD4F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6220-41BC-44A1-A7D6-1B9844C380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C098-1340-4A0E-8ECC-793F46DA7F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6584-8B30-4177-8F5D-4FF9D0C3FF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EF9B-8AD4-403D-8FE0-B2489F1D00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3ECA-A699-4665-B88C-13D89A7B73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3040-9E9A-48B9-85DA-26A6418C79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7FE8-A864-431B-8548-F5B1B541A8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F76E-B403-4501-9185-85D8929BBB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1D0-2045-4675-8E29-3111FBFEC8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9663-C144-4A9A-BCEA-74816F195B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6985-98C1-4281-8C9D-6EF1F57148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8431-CF3C-4093-81E2-767F9183BD5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C692-34A8-4459-A3E8-C877401776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98F2-8988-45C8-9250-DF2153935E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D1E-97A9-4207-8745-6D2629B8B1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FD7D-278D-4B0F-897A-2E61D989EE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16AC-E8C0-458A-8F2C-2CF6DE43D67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AF24-F4F3-4E4A-92E6-DB1FF8C75FF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4605-56F5-4BD2-83DD-56C7ABE4EB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4FC-45CD-4D83-A343-244DA7BCDD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F8FC-EA86-4F8B-9AE2-2EB4C260A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E96E-CD53-48A1-8E85-E7E7FDA881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373-4436-4A47-BD1C-BC3FE6B407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F7D3-39E9-4B14-A293-1D0CA23B9A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B8C-5FB6-47B3-A01B-AAFCACD84A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D0FB-6E61-4B7B-9128-3B0B8E27C4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E28B-BC78-49AD-9DF8-B33B5D0225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A63B-09C2-4144-9825-6F169D6888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092640"/>
            <a:ext cx="820728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CR" sz="1200" spc="-1" strike="noStrike">
                <a:solidFill>
                  <a:srgbClr val="333333"/>
                </a:solidFill>
                <a:latin typeface="Arial"/>
                <a:ea typeface="Calibri"/>
              </a:defRPr>
            </a:lvl1pPr>
          </a:lstStyle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200" spc="-1" strike="noStrike">
                <a:solidFill>
                  <a:srgbClr val="333333"/>
                </a:solidFill>
                <a:latin typeface="Arial"/>
                <a:ea typeface="Calibri"/>
              </a:rPr>
              <a:t>Material para la formación de mediadores de la estrategia metodológica Piensa en 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898989"/>
                </a:solidFill>
                <a:latin typeface="Calibri"/>
                <a:ea typeface="Calibri"/>
              </a:rPr>
              <a:t>© Asociación AcciónArte para la Educación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AcciónArte logo jpg"/>
          <p:cNvPicPr/>
          <p:nvPr/>
        </p:nvPicPr>
        <p:blipFill>
          <a:blip r:embed="rId2"/>
          <a:stretch/>
        </p:blipFill>
        <p:spPr>
          <a:xfrm>
            <a:off x="539640" y="333360"/>
            <a:ext cx="960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AcciónArte logo jpg"/>
          <p:cNvPicPr/>
          <p:nvPr/>
        </p:nvPicPr>
        <p:blipFill>
          <a:blip r:embed="rId2"/>
          <a:stretch/>
        </p:blipFill>
        <p:spPr>
          <a:xfrm>
            <a:off x="539640" y="333360"/>
            <a:ext cx="960480" cy="722160"/>
          </a:xfrm>
          <a:prstGeom prst="rect">
            <a:avLst/>
          </a:prstGeom>
          <a:ln w="0">
            <a:noFill/>
          </a:ln>
        </p:spPr>
      </p:pic>
      <p:sp>
        <p:nvSpPr>
          <p:cNvPr id="41" name="Footer Placeholder 4"/>
          <p:cNvSpPr/>
          <p:nvPr/>
        </p:nvSpPr>
        <p:spPr>
          <a:xfrm>
            <a:off x="620640" y="6318360"/>
            <a:ext cx="82072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ctr" pos="2698920"/>
                <a:tab algn="ctr" pos="294948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Material para la formación de mediadores de la estrategia metodológica </a:t>
            </a:r>
            <a:r>
              <a:rPr b="1" i="1" lang="es-CR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Piensa en 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98920"/>
                <a:tab algn="ctr" pos="294948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898989"/>
                </a:solidFill>
                <a:latin typeface="Calibri"/>
                <a:ea typeface="Calibri"/>
              </a:rPr>
              <a:t>© Asociación AcciónArte para la Educación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AcciónArte logo jpg"/>
          <p:cNvPicPr/>
          <p:nvPr/>
        </p:nvPicPr>
        <p:blipFill>
          <a:blip r:embed="rId2"/>
          <a:stretch/>
        </p:blipFill>
        <p:spPr>
          <a:xfrm>
            <a:off x="539640" y="333360"/>
            <a:ext cx="960480" cy="7221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539640" y="5373720"/>
            <a:ext cx="8209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ctr" pos="2698920"/>
                <a:tab algn="ctr" pos="2949480"/>
                <a:tab algn="r" pos="5398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2"/>
          </p:nvPr>
        </p:nvSpPr>
        <p:spPr>
          <a:xfrm>
            <a:off x="468360" y="5589360"/>
            <a:ext cx="820728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333333"/>
                </a:solidFill>
                <a:latin typeface="Arial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333333"/>
                </a:solidFill>
                <a:latin typeface="Arial"/>
                <a:ea typeface="Calibri"/>
              </a:rPr>
              <a:t>Material para la formación de mediadores de la estrategia metodológica Piensa en 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33"/>
                </a:solidFill>
                <a:latin typeface="Times New Roman"/>
                <a:ea typeface="Calibri"/>
              </a:rPr>
              <a:t>© Asociación AcciónArte para la Educación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990720" y="2112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7200" spc="-1" strike="noStrike">
                <a:solidFill>
                  <a:srgbClr val="000000"/>
                </a:solidFill>
                <a:latin typeface="Arial"/>
              </a:rPr>
              <a:t>El diálog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6212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ensa en arte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iene pasos esenciales requeridos para ser un efectivo mediador en los diálogos de los estudiantes sobre el ar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1. Crear el entorno adecuado para mediar en un diálo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2. Formular preguntas como una estrategia para mediar en un diálog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3. Aplicar herramientas para facilitar la dinámica del dialog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4. Usar el lenguaje hipotét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5. Proporcionar información contextu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. Formular preguntas posteriores al suministro de información contextu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7. Reflexionar sobre los procesos metodológ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8. Aplicar ejercicios y actividades complementari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9. Incentivar el aprendizaje independiente por medio de la reflex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295280" y="1523880"/>
            <a:ext cx="6858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nsa en arte tiene como base las siguientes categorías de pregunt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de profundiz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que invitan al intercambio entr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posteriores al suministro de información contex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752480" y="1676520"/>
            <a:ext cx="6172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iensa en arte además incorpora herramientas para el diálog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ite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e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Resu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Reflex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Lenguaje hipot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826920" y="1773360"/>
            <a:ext cx="77724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gerimos que comience mediar el primer diálogo con sus estudiantes pidiéndoles que recuerden las normas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uen oyent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d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uen habl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Pídales que elaboren una lista de atributos para cada ca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8459640" y="-16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835280" y="3933720"/>
            <a:ext cx="53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compañero participe por  tu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39640" y="5157720"/>
            <a:ext cx="842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os los estudiantes sean respetuosos y se escuchen unos a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763640" y="4508640"/>
            <a:ext cx="619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participantes pueden tanto asentir como disen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1341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r el entorno para mediar en un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692360" y="3141720"/>
            <a:ext cx="66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uérdeles que para entablar un diálogo apropiada deben asegurarse de qu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066680" y="1628640"/>
            <a:ext cx="7682040" cy="18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preguntas como una estrategia para mediar en un diálo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án organizadas en categorías y se utilizan para crear un clima interactivo con sus estudiantes. Dichas preguntas se dividen en cinco grup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11280" y="5373720"/>
            <a:ext cx="8064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que profundiz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iden</a:t>
            </a:r>
            <a:r>
              <a:rPr b="0" lang="es-VE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a los estudiantes que amplíen su búsqueda para encontrar más evidencias visuales en otras partes de la obra que pudieran respaldar su interpr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11280" y="357336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clave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ician y sostienen un diálogo y apoyan a los estudiantes en la formulación de sus propias id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11280" y="4365720"/>
            <a:ext cx="777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centivan a los estudiantes a suministrar observaciones que sustenten sus interpret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611280" y="1523880"/>
            <a:ext cx="812484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que invitan al intercambio entre los estudiante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can incentivar en los estudiantes el interés por conocer las diferentes opiniones de sus compañeros e integrar las evidencias visuales que sustenten interpretaciones que originalmente no habían sido pensadas por e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603360" y="3789360"/>
            <a:ext cx="7912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guntas posteriores al suministro de información contextu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can que los estudiantes regresen a la obra como fuente primar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 de haber recibido la información contextual de parte del educad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una forma de enriquecer aún mas su acercamiento con las o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1219320" y="1523880"/>
            <a:ext cx="736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eguntas Cl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piensan que puede/podría estar pasando en esta ima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consideran que puede/podría estar ocurriendo en esta ima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ven en esta ima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observa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ves que te hace pensar/decir es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227760" y="13716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09480" y="312408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762120" y="1828800"/>
            <a:ext cx="6870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1"/>
          <a:stretch/>
        </p:blipFill>
        <p:spPr>
          <a:xfrm>
            <a:off x="4267080" y="2438280"/>
            <a:ext cx="4648320" cy="37814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2"/>
          <p:cNvSpPr/>
          <p:nvPr/>
        </p:nvSpPr>
        <p:spPr>
          <a:xfrm>
            <a:off x="304920" y="16765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piensan que podría estar pasando en esta im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04920" y="2514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Estudiante 1: Ellos están enamo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04920" y="3276720"/>
            <a:ext cx="365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ves que te hace pensar que posiblemente ellos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304920" y="4343400"/>
            <a:ext cx="38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</a:rPr>
              <a:t>Porque él la está bes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304920" y="4876920"/>
            <a:ext cx="38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observas que te hace pensar que él la está besan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04920" y="56386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Porque él está muy cerca de ella y tienen los labios muy pe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928800" y="3200400"/>
            <a:ext cx="804996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ntender lo que pide esta pregunta a los estudiantes, se deben analizar las siguientes palabr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iensan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uede/podría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asand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e 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im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952560" y="17524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piensan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puede/podría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 estar</a:t>
            </a:r>
            <a:r>
              <a:rPr b="0" lang="es-V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pasando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 en esta </a:t>
            </a:r>
            <a:r>
              <a:rPr b="1" lang="es-VE" sz="2600" spc="-1" strike="noStrike" u="sng">
                <a:solidFill>
                  <a:srgbClr val="000000"/>
                </a:solidFill>
                <a:uFillTx/>
                <a:latin typeface="Arial"/>
              </a:rPr>
              <a:t>imagen</a:t>
            </a:r>
            <a:r>
              <a:rPr b="1" lang="es-VE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(plural, invita múltiples interpreta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143000" y="1295280"/>
            <a:ext cx="8001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iensan 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(ustedes): valoriza a los estudiantes como individuos y sus pensa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uede/podría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: indica a los estudiantes que varias interpretaciones pueden derivarse de la ima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asando: 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indica que tal vez hay algún suceso, acción o contenido que invita a los estudiantes a narr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Puede/podría estar pasando: 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indica que pueden derivarse múltiples interpretaciones de los posibles sucesos, acciones y/o contenidos observados en la ima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000000"/>
                </a:solidFill>
                <a:latin typeface="Arial"/>
              </a:rPr>
              <a:t>Imagen:</a:t>
            </a:r>
            <a:r>
              <a:rPr b="0" lang="es-VE" sz="2200" spc="-1" strike="noStrike">
                <a:solidFill>
                  <a:srgbClr val="000000"/>
                </a:solidFill>
                <a:latin typeface="Arial"/>
              </a:rPr>
              <a:t> la reproducción de una obra de arte que se utiliza en el aula (afich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97040" y="204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90720" y="1078560"/>
            <a:ext cx="79246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-Bold"/>
              </a:rPr>
              <a:t>Conversación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ción y efecto de hablar familiarmente una o varias personas con otra u otras. (R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versación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arte de hablar, conversar o platicar (Larous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-Bold"/>
              </a:rPr>
              <a:t>Diálogo.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lática entre dos o más personas, que alternativamente intercambian sus ideas o afectos. (R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762120" y="2971800"/>
            <a:ext cx="81406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ntender lo que pide esta pregunta a los estudiantes, se debe analizar el término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ve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n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reconocer, percibir, examinar la imagen con cuidado y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n en esta image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describir detalladamente lo que observan en la im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952560" y="17524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3200" spc="-1" strike="noStrike" u="sng">
                <a:solidFill>
                  <a:srgbClr val="000000"/>
                </a:solidFill>
                <a:uFillTx/>
                <a:latin typeface="Arial"/>
              </a:rPr>
              <a:t>ven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 en esta imag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(plural) (percepción / observación / descrip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685800" y="2514600"/>
            <a:ext cx="8153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a entender lo que pide esta pregunta al estudiante se deben analizar las siguientes palabras: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ve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e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s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pide al estudiante observar la imagen de nue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- Agudizan la observ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s que te hace pensar / decir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: pide al estudiante buscar en la imagen las evidencias visuales que apoyan sus interpretacione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85800" y="1295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3200" spc="-1" strike="noStrike" u="sng">
                <a:solidFill>
                  <a:srgbClr val="000000"/>
                </a:solidFill>
                <a:uFillTx/>
                <a:latin typeface="Arial"/>
              </a:rPr>
              <a:t>ves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 que te hace </a:t>
            </a:r>
            <a:r>
              <a:rPr b="1" lang="es-VE" sz="3200" spc="-1" strike="noStrike" u="sng">
                <a:solidFill>
                  <a:srgbClr val="000000"/>
                </a:solidFill>
                <a:uFillTx/>
                <a:latin typeface="Arial"/>
              </a:rPr>
              <a:t>pensar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 e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(singular) (comprobar las interpretaciones con evidencias visu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371600" y="3081240"/>
            <a:ext cx="77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797040" y="204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05160" y="1447920"/>
            <a:ext cx="70657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piensan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que puede estar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pasando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en esta imag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1600" spc="-1" strike="noStrike" u="sng">
                <a:solidFill>
                  <a:srgbClr val="000000"/>
                </a:solidFill>
                <a:uFillTx/>
                <a:latin typeface="Arial"/>
              </a:rPr>
              <a:t>más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piensan que puede/podría estar pasando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consideran que puede/podría estar ocurriendo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piensan que puede estar sucediendo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pueden agregar a esta ide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2337480" y="1052640"/>
            <a:ext cx="44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aciones de las Preguntas c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610640" y="2895480"/>
            <a:ext cx="49525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ven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en esta imag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1600" spc="-1" strike="noStrike" u="sng">
                <a:solidFill>
                  <a:srgbClr val="000000"/>
                </a:solidFill>
                <a:uFillTx/>
                <a:latin typeface="Arial"/>
              </a:rPr>
              <a:t>más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observan / ven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otras cosas / otros elementos observan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más podés decir sobre lo que ves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Describí eso en detal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Por favor profundizá esa descrip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2679840" y="4648320"/>
            <a:ext cx="56732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¿Qué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ves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que te hace </a:t>
            </a:r>
            <a:r>
              <a:rPr b="1" lang="es-VE" sz="2000" spc="-1" strike="noStrike" u="sng">
                <a:solidFill>
                  <a:srgbClr val="000000"/>
                </a:solidFill>
                <a:uFillTx/>
                <a:latin typeface="Arial"/>
              </a:rPr>
              <a:t>pensar</a:t>
            </a: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evidencias visuales ves en la imagen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Cuáles elementos estas observando / notando que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otras cosas / otros elementos en la imagen ves …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¿Qué te llevó a decir …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Por favor elaborá / ampliá más tu id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VE" sz="1600" spc="-1" strike="noStrike">
                <a:solidFill>
                  <a:srgbClr val="000000"/>
                </a:solidFill>
                <a:latin typeface="Arial"/>
              </a:rPr>
              <a:t>Por favor decíme más / agregá más sobre eso que 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1066680" y="1219320"/>
            <a:ext cx="769644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Se formula a partir de la interpretación del estud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iden al estudiante identificar evidencias visuales de la imagen que respalden sus interpre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más ves que te hace pensar/decir que quizás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cribí detalladamente lo que ves/pensás por fav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Hay algo más que observás que te hace pensar/decir que posiblemente…?  ¿Específicamente en dónde lo v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uáles son las evidencias visuales que sustentan tu opin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Qué elemento en la imagen te lleva a pensar/decir que  quizás…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1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49604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2"/>
          <p:cNvSpPr/>
          <p:nvPr/>
        </p:nvSpPr>
        <p:spPr>
          <a:xfrm flipH="1">
            <a:off x="380160" y="1676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más observás que te hace pensar que posiblemente ellos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83400" y="27432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l está flot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380880" y="3200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elementos visuales ves en el imagen que te hace pensar que quizás él está flotando?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380880" y="4572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Sus pies están en el aire; él no está pisando la alfombra r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914400" y="1371600"/>
            <a:ext cx="760572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s que profundiz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iden al estudiante buscar en otras áreas de la imagen, más evidencias visuales que pudieran respaldar su interpr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xplorá otra área de la imagen. ¿Qué más observás que apoye tu idea de que tal vez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Observá otros elementos en esa área de la imagen. ¿Qué más ves que puede respaldar tu idea de que posiblemente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Busca en otra área de la imagen. ¿Qué otras evidencias visuales pueden respaldar tu interpretación de que a lo mejor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Revisá toda la imagen. ¿Qué más ves que pueda respaldar tu opinión de que quizás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781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0"/>
          <p:cNvSpPr/>
          <p:nvPr/>
        </p:nvSpPr>
        <p:spPr>
          <a:xfrm flipH="1">
            <a:off x="457200" y="16002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Explorá otra área de la imagen. ¿Qué más observás que apoye tu idea de que tal vez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457200" y="2819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La manera como ella lo está mira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57200" y="3505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Me podés describir esa mirada como si yo no pudiera ver l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57200" y="44956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Bueno, ella tiene los ojos muy abiertos, está viéndolo fijamente, como hipnot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457200" y="54864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Revisa toda la imagen. ¿Qué otras evidencias visuales pueden respaldar tu interpretación de que a lo mejor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463320" y="6172200"/>
            <a:ext cx="53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lla tiene un ramo de flores que él le acaba de d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5"/>
          <p:cNvSpPr/>
          <p:nvPr/>
        </p:nvSpPr>
        <p:spPr>
          <a:xfrm>
            <a:off x="838080" y="1371600"/>
            <a:ext cx="8001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s que buscan el intercambio entre 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n a los estudiantes a relacionarse entre ellos al pensar y sustentar con evidencias visuales las interpretaciones de sus compañ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scan incentivar en los estudiantes el interés por conocer las diferentes opiniones de sus compañ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ién puede agregar algo a lo que… pensó/dijo con respecto a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vemos que respalde lo que… pensó/dijo con respecto a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otras evidencias visuales podemos encontrar para apoy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a ide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más podemos decir con respecto a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ién puede responder a la observación/idea de que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4267080" y="1800360"/>
            <a:ext cx="4496040" cy="3657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0"/>
          <p:cNvSpPr/>
          <p:nvPr/>
        </p:nvSpPr>
        <p:spPr>
          <a:xfrm flipH="1">
            <a:off x="380160" y="17524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ién puede agregar algo a la idea de que tal vez están enamorad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80880" y="27432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studiante 2: Yo creo que él está muerto y se le apareció como un fant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57200" y="3733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ves que te hace pensar que posiblemente él está muerto y se le apareció como un fantasm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45720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Él está flotando en el aire y tiene la cara gris como los mue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1066680" y="1447920"/>
            <a:ext cx="76154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eguntas inapropi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n preguntas que </a:t>
            </a:r>
            <a:r>
              <a:rPr b="0" lang="es-VE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sibilitan múltiples respuestas o guían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cerradas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i –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subjetivas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Te gusta la obra?, ¿Qué te hace sentir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funcionales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Para qué…?, ¿Por qué…?, ¿Cómo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de análisis plástico de la obr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De qué color es...?, ¿Cómo son las lineas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de adivinanz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Quiénes son esos personajes?, ¿Qué habrá detrás de la ventana?, ¿Qué año…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guntas que se refieren a las intenciones del artist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¿Por qué pintó eso así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19320" y="1780920"/>
            <a:ext cx="79246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-Bold"/>
              </a:rPr>
              <a:t>¿Cuáles son los elementos de un diálogo ame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Los participa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Establecen un tema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Utilizan las normas del buen oyente y buen hab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Aplican la escucha at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Emplean un lenguaje comú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Impulsan un ambiente lúdico, cómodo y con sentido del hum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Respetan y están abiertos a las opiniones aje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Propician la tolerancia frente a las diversas opin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Disponen del tiempo necesario para desarrollar la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Mantienen contacto visual y un lenguaje no-verbal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-Bold"/>
              </a:rPr>
              <a:t>Disfrutan de la comunicación y del intercambio de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1066680" y="1752480"/>
            <a:ext cx="77583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herramientas para mediar en un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cinco instrumentos metodológicos para los educador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nguaje  hipot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iter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pa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um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lexion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990720" y="1143000"/>
            <a:ext cx="7848360" cy="53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nguaje hipot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omendamos que se utilicen frases com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zá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sibleme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odrí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al vez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uando usted formule sus preguntas y al reiterar, al  repasar y al resumir.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nguaje hipotéti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l educador mantener una posición neutral al mediar en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unca se aplica a las evidencias visu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ves que te hace pensar qu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al ve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blanco? (El color blanco es una evidencia visu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lenguaje hipotético se debe utilizar para la interpretación del estudiante, lo que él comenta que no es obvio en la imag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eliz, triste, jugando, camino a la escuela, esperando a algu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"/>
          <p:cNvSpPr/>
          <p:nvPr/>
        </p:nvSpPr>
        <p:spPr>
          <a:xfrm>
            <a:off x="457200" y="1143000"/>
            <a:ext cx="8229600" cy="52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it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 de las ideas, interpretaciones y observaciones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ud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gerimos qu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it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comentarios de un solo estudiante después de que hayan respondido vari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clav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guntas que buscan evidencias visu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Asegúrese de incluir las ideas del estudiante y sus evidencias visuales cuando haga la reiteración.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it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 una pausa en un diálo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foca el punto de la imagen que se esta analiz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ida las respuestas del estudiante, tomándolas en 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yuda al estudiante a organizar sus propios comen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 espacio para observar elementos que no han sido men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bre un diálogo al resto de la 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a espacio para reflexionar sobre lo di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685800" y="1828800"/>
            <a:ext cx="76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762120" y="1828800"/>
            <a:ext cx="68706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1"/>
          <a:stretch/>
        </p:blipFill>
        <p:spPr>
          <a:xfrm>
            <a:off x="4343400" y="294336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304920" y="141300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ntástic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 parece que vos pensás que posiblemente ellos están enamorados por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ece que él está besándol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bién decís que tal ve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está flot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rque sus zapa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isan la alfomb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250920" y="472428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emás, dijiste que cuando las personas se enamoran se sienten como en el 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533520" y="1676520"/>
            <a:ext cx="8229600" cy="44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ases recomendables para reit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iero asegurarme que comprendo lo que vos decís/pensás hasta ahora, entonces vos pensás/decí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jiste muchas ideas interesantes/hiciste una variedad de observ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¡Fantástico! Me parece que vos pensás/decís que…porque v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jame reiterar lo que has dicho sobr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sta ahora vos decís/pensás que quizás…porque v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609480" y="1295280"/>
            <a:ext cx="838224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 de las ideas, interpretaciones y observaciones de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ari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ye las opiniones y observaciones de los estudiantes, de manera ordenada, para que ellos reconozcan un diálogo ocurrida hasta ese punto y detectan qué otros aspectos de la imagen no se han analizado y cuáles son las posibles direcciones en que un diálogo puede prosegui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hace después que han intervenido 4 o 5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enera pausas en un diálogo para organizar los comentarios e invita a investigar la obra a f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n todas las ideas aportadas, agrupando las ideas donde hay acuerdos con sus evidencias respectivas, al igual con los desacuerdos, incluyendo las ideas ais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dere cuidadosamente el uso de los nombres d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533520" y="160020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ases recomendables para el Rep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mos a parar un momento para repasar lo conversado hasta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mos a parar nuestra diálogo para ver/escuchar todo lo que tenemos hasta a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gunos piensan/dijeron que…, otros piensan/dijeron…, adicionalmente se dijo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y varios que piensan/dijeron…, algunos dijeron…, y también se piens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 parece que unos piensan…y otros…, pareciera que todos están de acuerdo en esto…aunque no estamos muy seguros de esto o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3"/>
          <p:cNvSpPr/>
          <p:nvPr/>
        </p:nvSpPr>
        <p:spPr>
          <a:xfrm>
            <a:off x="457200" y="1143000"/>
            <a:ext cx="822960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su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 de las interpretaciones y observaciones de los estudiantes para finalizar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final de un diálogo, debe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mi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 conversado. Luego de varias experiencias de mediar en un diálogo, sugerimos invitar a sus estudiantes a resumi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luye las evidencias visuales, las interpretaciones y las conclusiones recopil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erra un diálogo por el momento y valida las ideas desarrolladas durante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 conciencia d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yuda a los estudiantes a recordar todas las interpretaciones realizadas durante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pretende llegar a un consen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533520" y="1676520"/>
            <a:ext cx="82296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rases recomendables para resum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bemos que podemos continuar conversando pero tenemos que terminar por el m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 encantó todo lo que conversamos acerca de esta imagen, pero tenemos que parar aqu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emos tenido muchas ideas diferentes acerca de lo que podría estar pasando en la 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unos de ustedes pensaron que…, También vieron que…, Otros pensaron… aún varios pensaron que…,  A la vez, algunos de ustedes dijeron qu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1066680" y="1371600"/>
            <a:ext cx="76964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nejo de las respuestas inesper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Me podés describir qué es lo que ves en la imagen que te hace pensar que quizás es…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dirles la búsqueda de evidencias visuales que respalden sus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los estudiantes conocen desde antes la información contextual de la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ando los estudiantes piden información contextual y preguntan sobre la obra desde el principio de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371600" y="1946880"/>
            <a:ext cx="74484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-Bold"/>
              </a:rPr>
              <a:t>¿Cómo crear el entorno para un diálogo am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Disponer de un lug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Cómodo, seguro, calido y conf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Con buena luz y poco r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Que permita la comunicación flu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Que promueva la comunicación tanto verbal como no ver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14400" y="1523880"/>
            <a:ext cx="77724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porcionar información contex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formación que se proporciona debe se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rev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evan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un diálogo sostenida previamente con los estudiantes. Sugerimos que no les proporcione la información contextual al comienzo de un diálogo, y recuerde que no es necesario proporcionarles toda la información brindada. Después de cualquier información que se proporcione se deben utilizar la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reguntas posteriores al suministro de información contextu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segurar que los estudiantes regresen a observar y analizar la obra de nuev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1447920" y="380880"/>
            <a:ext cx="7696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7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04920" y="2971800"/>
            <a:ext cx="3809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tretch/>
        </p:blipFill>
        <p:spPr>
          <a:xfrm>
            <a:off x="4419720" y="2819520"/>
            <a:ext cx="4495680" cy="36576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 flipH="1">
            <a:off x="380160" y="16765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 gustaría compartir con ustedes que esta obra, pintada por Marc Chagal, se llama “El Cumpleaños”.  Ahora que sabemos el titulo de la obra, ¿qué más ven en est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457200" y="2819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studiante 3: Hay un queque en la m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57200" y="3733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cribe específicamente dónde ves lo que posiblemente es un que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457200" y="4952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</a:rPr>
              <a:t>En la parte izquierda de la imagen, hay un circulo amarillo, y me parece que podría ser un queque y un cuchi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990720" y="1447920"/>
            <a:ext cx="769608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eguntas posteriores al suministro de información context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oponen que los estudiantes vuelvan a observar y a analizar la imagen luego de adquirir información contextual, para garantizar que regresen a la obra de arte como fuente primar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que conocemos…, ¿qué más ven en esta obr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que sabemos el titulo de la obra, ¿qué aporta esta información a nuestras observaciones previas sobre la obr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sándonos en esta información, ¿qué más podemos decir sobre est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le agregan las palabras del artista a sus pensamientos anteriores sobre l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biendo…, ¿de qué manera afecta esto sus pensamientos/ideas sobre la ob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1371600" y="1828800"/>
            <a:ext cx="723888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ija la información contextual de acuer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tinencia a los estudiantes y su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tinencia al momento actual de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levancia para los estudiantes como medio para ampliar y profundizar sus pensamientos y observ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o modo para estimular más diálogo sobre la obra de 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755640" y="551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las Preguntas posteriores al suministro de información contextual para que los estudiantes vuelvan a observar la o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419640" y="155736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Recuer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042920" y="206064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información contextual debe ser una herramienta más, que enriquezca la observación, el análisis y la interpretación desarrollados durante el diálog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116000" y="335772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e ser proporcionada en el momento oportuno, después de que miren detalladamente a la imagen y conversen de sus observaciones e id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1116000" y="450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es necesario proporcionarles toda la información contenida en el plan de l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609480" y="1447920"/>
            <a:ext cx="8229600" cy="42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flexi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ciencia y reconocimiento de Piensa en 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endamos que usted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flexion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los estudiantes permitiéndoles empezar a reconocer la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fundizar con el grupo el proceso en el cual participa haciendo un repaso del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render que es un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ientizar su propio proceso al analizar obras de 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miliarizarse con la estrategia y las categorías de las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3"/>
          <p:cNvSpPr/>
          <p:nvPr/>
        </p:nvSpPr>
        <p:spPr>
          <a:xfrm>
            <a:off x="685800" y="1295280"/>
            <a:ext cx="8001000" cy="62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rases recomendables para reflexi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ver si notaron las preguntas formula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Qué pregunta utilicé con frecuencia durante un diálo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Descríbanme una de las primeras preguntas que les hice en nuestra diálo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creen que estas preguntas generaron en sus respues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aplicar las habilidades desarrolladas en el proceso en otras áreas de su vi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é otros momentos de su aprendizaje en la escuela podrían implementar las habilidades que utilizan en nuestras convers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En qué otras situaciones de su vida piensan ustedes que podrían aplicar lo que hacemos durante estas convers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1219320" y="1371600"/>
            <a:ext cx="75438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ar y sostener una atmósfera de 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luida, amena, participativa, motivada, imparcial e intere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diálogo fundamenta, activa y facilita la disposición del estudiante a observar la 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 mediar en un diálogo cuídese de mantener una posición abierta, motivada, sosegada e imparcial ante las intervenciones d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ejo del silen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ejo de las interpre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1066680" y="1371600"/>
            <a:ext cx="769644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enguaje corporal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herente con nuestra postura d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buen hablant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buen oyent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n un diálo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fectuoso, neutral e 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lenguaje condicional te permite reflejar esa neutr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reiterar y repasar reflejan la importancia de las intervenciones de los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 a los ojos de los alumnos cuando están intervini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tilizar un tono de voz amigable que estimule a expresar una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 en la imagen lo que están señal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palmadita en el hombro, una sonrisa en el rostro, aproximarse al estudiante para ver desde el ángulo del estudiante les invita a exponer sus ideas sin mie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1219320" y="160020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ejo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mpo/ritmo/f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ar un entorno de aprendizaje diferente al usual dentro del 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e un ambiente o atmósfera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oque los pupitres en semicírculo o pídales que se sienten en el p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uelgue el afiche en un lugar donde sea completamente visible para toda la c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806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539640" y="162864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través de Piensa en arte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ted podrá mediar un diálogo exhaustivo con sus estudiantes en torno a una obra de arte, lograr sensibilizarlos hacia la apreciación de las artes, el patrimonio cultural nacional e internacional, así como el papel del arte en sus vid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mismo proceso de diálogo refuerza sus valores y actitudes democr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vez, la metodología concientiza en los estudiantes sus propios procesos de aprendizaje y de cognición.</a:t>
            </a:r>
            <a:r>
              <a:rPr b="0" lang="es-ES_tradnl" sz="1100" spc="-1" strike="noStrike">
                <a:solidFill>
                  <a:srgbClr val="ffffff"/>
                </a:solidFill>
                <a:latin typeface="Arial"/>
                <a:ea typeface="MS PGothic"/>
              </a:rPr>
              <a:t>te en s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66680" y="1672200"/>
            <a:ext cx="77724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significa la palabra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mediar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Mediar. 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Interceder… Interponerse entre dos o más… (RA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Mediación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ción y efecto de mediar (RA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ación pedagógica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atamiento de contenidos y formas de expresión de los diferentes temas a fin de hacer posible el acto educativo, dentro del horizonte de una educación concebida como participación, creatividad, expresividad y relacional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Gutierrez y Prieto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430800" y="234324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955160"/>
            <a:ext cx="777240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docente como medi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cambio en el rol del educ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duce al mínimo su participación como transmisor de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ente presenta y contextualiza los temas, amplía, mo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ente es un orientador y proveedor de recursos, organizador de entornos de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1814040" y="2781360"/>
            <a:ext cx="55587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entury Gothic"/>
              </a:rPr>
              <a:t>M</a:t>
            </a:r>
            <a:r>
              <a:rPr b="1" lang="es-VE" sz="5400" spc="-1" strike="noStrike">
                <a:solidFill>
                  <a:srgbClr val="000000"/>
                </a:solidFill>
                <a:latin typeface="Century Gothic"/>
              </a:rPr>
              <a:t>etodologí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5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i="1" lang="es-VE" sz="5400" spc="-1" strike="noStrike">
                <a:solidFill>
                  <a:srgbClr val="000000"/>
                </a:solidFill>
                <a:latin typeface="Century Gothic"/>
              </a:rPr>
              <a:t>Piensa en ar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4360" y="155700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Piensa en arte se basa en cuatro principio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Los maestros son los que mejor conocen a los estudiant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Los educadores y estudiantes descubren activamente formas nuevas de observación de un problema mientras construyen significados, como individuos y como integrantes de un grup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El pensamiento visual es subjetivo y por ende proporciona espacio para la especulación y expresión personal, 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El arte puede usarse como vehículo para incrementar las aptitudes necesarias para la resolución de problemas  que son aplicables a otras disciplin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4:33:19Z</dcterms:created>
  <dc:creator>Trial User</dc:creator>
  <dc:description/>
  <dc:language>en-US</dc:language>
  <cp:lastModifiedBy>maria.bujanda</cp:lastModifiedBy>
  <dcterms:modified xsi:type="dcterms:W3CDTF">2012-08-22T20:51:56Z</dcterms:modified>
  <cp:revision>290</cp:revision>
  <dc:subject/>
  <dc:title>PowerPoint Presentation</dc:title>
</cp:coreProperties>
</file>